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1" name="PlaceHolder 2"/>
          <p:cNvSpPr>
            <a:spLocks noGrp="1"/>
          </p:cNvSpPr>
          <p:nvPr>
            <p:ph type="dt" idx="10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4" name="PlaceHolder 5"/>
          <p:cNvSpPr>
            <a:spLocks noGrp="1"/>
          </p:cNvSpPr>
          <p:nvPr>
            <p:ph type="ftr" idx="10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5" name="PlaceHolder 6"/>
          <p:cNvSpPr>
            <a:spLocks noGrp="1"/>
          </p:cNvSpPr>
          <p:nvPr>
            <p:ph type="sldNum" idx="10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5911-CE50-48CB-875D-2AC44588B28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9632-E853-42BD-9EB8-66FCC86BF73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BB16-3B7E-473F-A07C-71B27D2302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A597-9F01-4B2B-9948-308CBFAECA5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2A511-CE13-4DA5-8384-EDA1EF08B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3F40-BEC2-41A4-9C3C-E833C5680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9314FC-C0BC-4EE3-8FD0-6E5E24FE31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E345F-71C3-4960-8143-635B1E476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D5DC2-043A-4CEE-BF53-2FF69B54BB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8E27E-14BA-4B7A-81AE-A23060B71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4944C-5D22-4283-9F85-37706FB37E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BE524-5D03-45EB-9220-AF06C8356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02475-8031-4B00-8BCE-AC2644809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F6EF1A-7262-4A52-AF5E-30B84879C4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DFD391-951A-4448-AA4B-0E577297C9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A1EB11-DE74-4C56-B0B7-28639F13F8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46BED-953D-4B6B-B9A8-78C16E41D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6AC2C3-54E1-44D4-A2D3-EB4B1BCDC9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0F7F7E-51C7-4069-B75D-2F23B5AA54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7AFDD9-B204-43DD-9C11-2162204915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81947C-FD8A-4745-956E-F89B5C605E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DF33DD-925C-4A0E-BAD5-07FB68675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AB589-B0B1-4539-884A-9089E797C5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EDAB6D-7B43-483A-A852-5C207FB7F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96327-3095-4955-BAE8-2590587924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B64A8A-CFC8-4D49-BD64-976930AF3E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B355BC-EA1E-4AA1-853C-23AC6AFCBC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7B5DD-EA13-489B-AFB8-AC0B8C043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4F0641-1F14-46A1-BC10-8F2D05E81E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E53A70-0287-474E-AFE9-D87340C395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D67CD7-C03A-4654-97F1-4DFC880FB3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5B2E47-3619-4156-AFD4-1544BD8132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4F8293-D36C-463E-9802-A48103E30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FE211A-D441-4C56-9A8F-481C7B85D7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20E6F9-2E4E-4345-821B-058FC7B11C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EBAF2-57AB-450C-9B67-00B22FFA24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91C93-6CDF-4C55-9F42-CC19A0DFC4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95CB6C-54EF-4889-825E-36C6C2DEF1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25B86-7528-4B84-AA3C-95C3E570C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583E22-2A2F-4041-8BEE-D2F3E5F730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674D19-0ECF-489D-A541-A3D982972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437048-6469-4BE3-B228-BD2ADC68CB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E3735F-0F47-4B7F-96E6-A94C45DB76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5E512D-808E-474F-83DF-781080B444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D39783-6F1D-403D-8D08-CB69639531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C28F8A-4332-4FAA-9AA0-653647C251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1B1E59-21E5-4003-A240-72688307AA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7537ED-FC51-4837-841A-B0636F1326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F5089F-797B-48E9-BB70-D01A06C4BF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C57D0-4A53-4D9C-94DD-4AC58AFF8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E60199-835C-405E-A458-B09DCC746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4F8B20-16A4-4810-8B64-EF4DBAEF0F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6E8D3B-797B-4E61-BB81-30537471EC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080860-2B18-4299-91A2-DAAC704DC0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59F196-1650-4C8E-A0DF-2EB77E9FF4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1F83FB-F9F2-4BF4-B931-1F0FA43C6B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A6AC29-D554-45B5-989E-46E55ED403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FCCFAB-3986-432A-B535-60D97EA9F5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B35B1E-EB61-4E01-ADAE-014EB83773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10FCEC-7A09-4E9B-8AD7-74ED62A821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5D4C7-36F5-4228-8D71-A8666F584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6B1244-C0AB-4B64-A8EA-211E922105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1A7056-E088-407D-B76C-EF42B5B30E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AA0B34-0A96-42FD-9837-8970BDAE97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CD2856-574B-4C31-B6F3-81C2E56600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DDACFD-761E-4396-939A-19C161C8AB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625E32-2EBB-4037-AC2D-AAECA7B84A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E005F5-21CD-44CB-9ED6-1A7500A3CE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07626D-21A8-4099-83E2-628FB63A36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B62A13-B2C0-4E20-8BEF-BF120C7548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0A0813-3BD0-4145-A497-F10488781B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D0DC4-1F4A-425F-8F04-DDBB7E63A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E6FC61-60C3-4AAC-9C82-D93122A085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7D9409-C434-454F-80A9-B7792BD066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E4AD40-19E8-42FC-B685-2582496628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396C8B-638D-4286-AA99-3F9BD8EC81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F1542F-9138-43B8-87E9-5E8C44F7C8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1A6B95-F7B3-40A9-A463-A0B428D31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A8A664-474D-4F87-A1C0-B59415983E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FDAD57-BBAB-4114-80ED-66CE7F9648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9CE0B3-02C3-430E-8541-4A68F62C447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BD31696-B374-4360-B9D1-855D20BDEF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2DA2C-EE7E-4CBB-A5C1-B5AC2BDAB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86601D-893A-466B-832A-6A38F706A7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F0C330-5521-4398-88D1-4A947969EF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33DA3DE-5FAF-4E49-A210-92ACA7EB10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949683-C3FE-420F-8739-CB75C1972D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725F6E-1410-45B0-986F-8F30927C09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BB9776-91E7-4B74-BB4C-4384D8C459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C2A744-8E89-440D-B6A2-3E8453E704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D88FE2-991C-4A75-A108-6F428D8EFA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208B96-7F2B-4CA6-8D34-3D636F236D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FF7BAD-6D36-474C-8D38-B75D1CC036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3069-7092-4B58-AD93-18E87F4A8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53C56E8-8A0E-4C5F-B382-98A58A7A3FB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68C8B0-5F13-43E4-BF7B-446BEDB5C3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0E2F3A-5281-45E4-A294-6474F8C70A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E350F8-DE57-4D07-950A-8D5F50AB5B6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741147-903A-44C5-8857-C02EC72A3E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321D94-C4F4-4B10-B1EF-8FEFC9508A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638152-ADAB-4B92-A826-18D6BAAFE5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E6C760-A2EA-4A21-B7A4-A91DD2A510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DD49CB-240F-4674-B495-5B5D5F7E5A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AE71BA-7C4F-4AFF-9896-8B918C3642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BB001-0C06-46CC-A320-27C53F9C8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C38861-42B3-4309-9A97-0DA9657CF4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76456B-7728-40CC-8C2E-0F288AF80F1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D4C27BF-CE3A-443C-B093-40876D3FAD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1"/>
          </p:nvPr>
        </p:nvSpPr>
        <p:spPr/>
        <p:txBody>
          <a:bodyPr/>
          <a:p>
            <a:fld id="{D73D8324-7021-4A59-8E1E-871E8CA1E9C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1"/>
          </p:nvPr>
        </p:nvSpPr>
        <p:spPr/>
        <p:txBody>
          <a:bodyPr/>
          <a:p>
            <a:fld id="{73CCB309-A52D-48A1-ACC1-61DECC880F3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1"/>
          </p:nvPr>
        </p:nvSpPr>
        <p:spPr/>
        <p:txBody>
          <a:bodyPr/>
          <a:p>
            <a:fld id="{27CAD73D-88CD-42BA-AD26-CAFB0A8E3E4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1"/>
          </p:nvPr>
        </p:nvSpPr>
        <p:spPr/>
        <p:txBody>
          <a:bodyPr/>
          <a:p>
            <a:fld id="{7EF58C5E-D1F2-4CC2-BFC0-41F09A51012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1"/>
          </p:nvPr>
        </p:nvSpPr>
        <p:spPr/>
        <p:txBody>
          <a:bodyPr/>
          <a:p>
            <a:fld id="{4010BD53-3DC4-40E7-BE6F-B572F74DBB7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1"/>
          </p:nvPr>
        </p:nvSpPr>
        <p:spPr/>
        <p:txBody>
          <a:bodyPr/>
          <a:p>
            <a:fld id="{89AABCFE-B1E6-40DD-87A0-C56715836DA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C9AFCAB5-C201-43F8-92A1-CE9AA6CF4A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E08A-676C-43E4-BCD2-2B53D4D9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861FB-694F-496B-AC1B-3C5F62AE9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C72F3C71-EDDD-439A-BE00-D2D58C6394A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918CE368-5972-4FAD-8440-A6C3D691517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1"/>
          </p:nvPr>
        </p:nvSpPr>
        <p:spPr/>
        <p:txBody>
          <a:bodyPr/>
          <a:p>
            <a:fld id="{F0BD2DFB-91E3-442D-87F3-32F0E10156A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1"/>
          </p:nvPr>
        </p:nvSpPr>
        <p:spPr/>
        <p:txBody>
          <a:bodyPr/>
          <a:p>
            <a:fld id="{609770D5-D7C6-4555-886A-7D0B2278E61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1"/>
          </p:nvPr>
        </p:nvSpPr>
        <p:spPr/>
        <p:txBody>
          <a:bodyPr/>
          <a:p>
            <a:fld id="{9F850F90-A2DB-4BCD-AD9F-2FEAC39F7B1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3C03DE9-D1BF-47D4-BAE4-EA91F34A7DD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706CAE-A471-42D1-B54A-5EE1438F1D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EC7F0A2-DD05-44C3-85F7-2688035BC6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8A0699-42CB-4BBC-AEAF-CA8A9EED3D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AD0764-0C94-495D-8F1D-AEF92CEDE6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3CEEE-87B6-42E6-87B3-D4DC1E152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F71EBA-E073-43D8-AB0B-B6142D0F185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917AB2-238C-465E-9106-9D7F98E1DC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C183C56-F43B-4719-B3F5-0461CA921C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9EED85-5EAD-4DE0-8255-7F4EB3F067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BBABC6-2088-4BD9-894A-60AFE720D4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005300B-9B79-4F75-A415-BA8FCF33A31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5DEE5F4-D7E7-481B-B5F0-3B5434B69D6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E61D677-E1E9-4962-ABBF-58C628270C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7A3B63-CBDB-48E4-8A06-00C47C7E7FD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B57268-D5DE-40C5-95A8-07B3285020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90304-91A9-4CE9-9C4F-789A4619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EEAE0BB-0339-4849-9B1A-D9B0BC5C0E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267E287-7FBD-4B56-BC22-8DCD37E6BA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F857AE2-04D7-4B54-A19F-2C39270885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3216F1-9342-42F5-8B83-6CA182D2D3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77AE44-437B-4B83-ADD7-61FEBB1A8C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B09ACB-8351-4FE9-8791-05279A265F6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BC945D-B503-4948-B1EB-CA2316C89A3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C655DB4-FB94-437B-A68B-3ED197F2132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9DD08E3-FA4C-4CC6-AFC7-5AC7FA27B53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CB3BD47-29F2-4546-A795-0F8DCDD326D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E7C8F-D043-478B-826A-E1A3BDED3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2E5E0C-2B22-4F54-84EC-43404E31E5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3E4BB42-060C-48BA-A01B-AA26494A8A3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AFD3FE-D506-4AFD-9AFF-7634FCB73AE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F5483F6-7597-43E5-9C92-EF2BBEDD308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C48205-931F-4B93-B10C-D482AAD2D3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D5EC02-C424-46CA-A04E-2FC0517ED8A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3AB045-6441-4BE0-855B-9CAA886BDC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A88946-64C2-4A55-85A7-AF2BAF5635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094C7A5-CFE3-4D22-BD06-B3641FF87C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BECBDE6-B8E3-4486-B2A5-2327A5BE972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60AEF-1435-4B3B-ACC4-DE63CB094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3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2E85C7B-2842-44B9-B75A-7E6E437C0EC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FCA1E45-7762-4F9C-83E0-6D924CAA5BA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47CBF99-055A-4DBB-9D8F-EED2C1C5C12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17D0AA-2799-4306-8BA7-E6321003E5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59EFF28-42A5-4EFA-93DB-EA1BF850CF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DF2F2D-CF8E-4C3E-BAA3-65C228CA8E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3175A2-ADD1-4CBD-818C-3D38D5398C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F4F117-23AC-4D07-8445-296D6A6EF35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A6DC33-D779-4972-BFA5-BF7ADCB96B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F94562B-0F5B-45DD-AF81-077F7D48F9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F53913-3106-4650-B373-875B8F244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C37F6B-99F7-451A-9E13-FB8476277C3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D3CF9D0-FFD2-4BB0-93C1-9F1A0AB3421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A7DFF29-6FA2-4644-958F-D4C66F989C4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7DCBBEF6-34E7-4500-A1D7-A491CFB4B81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498ECBB5-DC77-45D5-94A9-9A3209DDD6C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DAAA3584-027A-49B3-ACFB-854960F36B4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2DD170B0-98FE-4E90-A4E4-2551C320DF1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B00B62BD-C21F-446C-91E6-59C149EF08C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7B0D1EC-31EC-4A8A-A16F-A76D0305234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1ADA21AF-9CC4-4547-B708-AD74195942C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C72A7-869E-4F1F-848C-C83BC7F29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00E94A5-DF78-4ABE-967C-0F12D594499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B0730CF5-C08F-4B68-9271-BED85A67760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18B8536-57EA-4FE0-9510-E501EDE9637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85AAD5BB-BCE7-45A8-8760-24140FF2CE5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E958FC3F-BB8F-46B5-881C-CCE715087FA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7"/>
          </p:nvPr>
        </p:nvSpPr>
        <p:spPr/>
        <p:txBody>
          <a:bodyPr/>
          <a:p>
            <a:fld id="{3AE92F4D-1B47-479F-A46F-2B078FED5E3C}"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9A201DBB-9F66-43EA-ACF8-86820FF9241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0A51C7C1-6B43-450D-956B-367CF9D8B0E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B07C6D3C-1D96-4DA2-A233-15A3589544D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7327AB20-F636-47A9-B975-FBC37C67233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0E880-60DE-4D5E-BDD5-7EFD05E3E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312B5F7E-36C7-4514-8BE2-FC0158C8315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7F733316-FD8D-4E1C-890E-7F8C389D3E4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92BE3C16-1C83-4130-8E8A-DD35457865D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C4658BE9-1A5C-4480-AFEC-F6B4D718CFC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4F023760-0B61-4734-B595-D16C8FE7F5B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7"/>
          </p:nvPr>
        </p:nvSpPr>
        <p:spPr/>
        <p:txBody>
          <a:bodyPr/>
          <a:p>
            <a:fld id="{6D0370D8-7952-4D1E-BC21-801EC29DB39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7"/>
          </p:nvPr>
        </p:nvSpPr>
        <p:spPr/>
        <p:txBody>
          <a:bodyPr/>
          <a:p>
            <a:fld id="{A8D22B2C-8806-4A77-8E72-894202231A4A}"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93B9375-389E-4023-AC1E-D565370D529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912E61-78D3-47EF-8521-F257F25E082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D20548-F412-4452-AE8D-6BD681FE7B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5530A-79FE-42DE-9433-E5821FA35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2C36DB8-82E8-4B72-B997-FFE46736009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A4EC75-34D6-47FE-9527-FF2B07BD018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589A0DE-F3D7-4EFC-8253-5923426C51E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E669F3D-AD4D-4A02-8E8C-B3C4F1D2AC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5A23DB-F93B-444C-A910-1CBF3A66D6B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E0FB3B6-6616-419B-BC6B-BE534310AF0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CC6A8B-E988-45DD-BF45-80A53724096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599DEB6-CF21-4AC6-8BBF-7E5EF4522AA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B8B5408-2987-47E7-B0FF-749303CD50F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293363DA-6E85-4FB9-AF28-6150FDBE3D92}"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083CB-0974-4BB0-A271-4F57A71A5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D9ABF06D-A8CF-4468-B5EE-1F6BE9638BD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75E8735A-AC8A-4A9A-8543-2419DB0673A2}"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7750E5CF-0BBE-403B-B31C-FDC5DF501342}"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FDA15112-6445-4FCE-915D-5E3390D1B2A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B7FA414A-FE52-451C-AC0F-1FC9FA4F116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862CFC1F-0CBF-4207-A549-CE7C8521923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22DEAE0A-B61E-4E9F-B37D-D561C48A0C0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5667F83D-4FFD-464B-A0CB-E4532C692A0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F3A242FC-6665-446A-A317-21A09D43B9A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84EF4089-7AAA-401D-8B6E-C5F774BF5920}"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27BD2-4C0F-4662-B5ED-5C5046DA6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9A410-C828-4384-8AD0-0B767378A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C5534503-6BEE-4A61-AC79-0EAA33B63649}"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6A4ED9A-D7E3-460E-BBF7-1C35BC8D2E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47B76A-BBDC-45CA-A3E1-EB40BABB59F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1DC2022-B4F6-4B55-B2CA-737D21E56A3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4BDE839-399D-4A0F-9E9A-B5E250E7372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CED1D05-F6F5-4792-AC14-30A76F6CD5C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8AAAD7-AE45-424D-B133-AA8C737AE6C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072026-D612-486C-8361-A6D88CDCB6B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B2D0CF6-9AF4-41CB-B64D-4F9476A0535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ABFBE2-E0E5-4CF0-BA56-046A27FDFE4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71036-D5C4-4A8F-95E3-B79404988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84CCC9C-0423-4C5E-99F1-0F5ECFC36C8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CC43E43-8081-4603-81C8-6A27A8EFCC8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527D4EE-BD8E-49EC-9DA6-A88604A9463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BC1D87E-1865-4B50-8B3B-0AED957BBC1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3731D2D-9F7C-4125-A4AA-0FB7772656D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B0BC70D-BF61-4BA4-AFFB-395260B9FCD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2B68D61-06DA-498F-915A-D8B028182B8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5DCA9F9-E12E-4C9E-A1B9-B766D7ABAE6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689BCD7-C880-4536-9945-4FD8E81E32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7429DB8-14DB-4CB0-91AD-B7A2B99B4C2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AA456-82C7-4D4E-903C-B3FF3782B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8F19187-96DB-4CE1-8260-D9C7D3A6633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2AB8B84-90AE-4621-BFF6-09D002AAF27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CDBE3D4-A827-4EF4-BB89-D8403AB1F7D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28DFF4A-80AB-4FEE-901C-5DB521A7D74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031ED82-D61D-4601-A931-C0EB1931C78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4CD9F6D-EC73-4627-B127-BB4C23992B6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4FD3A6E-F3D2-4415-BB7B-FAD32F94972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358F196-9687-4017-91CE-EAA708F2C75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1064DA4-D786-428E-8CB9-BBB72DB9494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547F7D8-A652-4B0A-B0EA-F6B63F6D761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78CC1-708B-4E0D-A1E3-C96163385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0C5C7C6-D653-4110-BF8B-11129E65263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E389AF3-1D40-40C7-9F01-39B594386D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1B096E4-5290-47EF-9A8D-F8FF3392559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CA61A81-301F-4520-ABF5-D757B6FA7C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7E5577E-7985-40BF-8F49-789EF69062B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5ADF869-0F27-41F2-870A-FC7F7D15398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9BC2ABE-05FC-477D-A2DB-8E85996A49C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C5C1B9E-309A-46D4-953B-F49F378631B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35175E7-C205-4665-8E87-07A11A205DD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3859D8B-12AF-45D6-81BC-06B35FD794D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C7E4D-51F6-4D72-AFA2-F9B40B594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E6C0539-8418-4329-A1DD-C9BF58418AE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582A153-6D5A-4683-92C4-02B49FCE79A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5FA54D8-131A-4FC8-9347-CC4C17CC5F8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41BBAF9-8EF7-47D7-9AB9-DC9D323631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9738792-FD5F-4D96-8B46-AC62F170F0D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8778EB-4398-47F9-AFA6-7B262B0C72E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9733B72-1806-4718-8A54-BE3954CB06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0EAC7A5-486A-4388-8537-DC89EACF63A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59F9EE5-60AA-4092-8FF4-D368E2C85D0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20EEF2B-AA64-4E9A-8B08-DB42E048546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52ECE-F506-4CA2-A920-40D498992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7C72136-A3E1-4243-81A1-F3AABF1E4B1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A08D252-E9BD-4CB5-9AF9-858EA9B3CC9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8B4F1B9-D914-4AD0-91AA-22F24FD872C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414EEB0-FCB1-4B22-B787-1D3B850DED9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151D6BC-C1A1-4B1D-AA7D-5D7C5F0DDFB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010DF13-E22C-4191-9790-02A9F1AD5F7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2FD78B3-DB4A-4D0C-B78D-6B4A0292FCA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83D6011-9D7B-4232-85F0-9793CE47605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AED749D-6C88-4033-9DB7-D456A0AB2BD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0C3A065-6281-4B7B-A919-931E687D354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15723-9AF9-4DA9-BD74-30CD64616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762C624-E9AA-4E03-B798-2609781483C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80067AD-1D68-4EA2-8EEA-6D79C3C450C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D74BCBE-DAC4-44F8-A52E-9853B524FFA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E2F0A7F-A841-42D3-B8DF-94FE68F9502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C78F720-3DFB-413C-AB84-A62964B80C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EFBDBB4-E2E6-4FEF-9D71-9A195B9A35B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F5C70B7-91BF-4981-8AA7-A535AE595DB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5F949EA-D795-4F99-AF9F-FC4AD775F91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60D7C38-5B51-4DF4-8EEB-874499CD520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E7E5609-0C2F-4697-81DF-81B284C8594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1B1CB-1916-4D5D-A969-3E22E4E9A0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7AD0798-AEA6-4430-9062-3BF16C6462A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66A3565-CD73-4EEE-BF13-9C1A54F2DF5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C5B3FA1-1CB5-4936-AB59-8E4FB515DFD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839513C-EC07-4886-9F6F-E3AD14C100B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62C0DBA-D067-41A7-829D-1B3C780FDDE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13EB62-9FEE-49B7-A904-DFA5A6D6B9C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B876B15-E526-4AA4-BA8D-1D10D042876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AD8F0F5-4600-4DA7-8A05-3AC26D2A5B6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C1B1526-23F3-48F3-970F-20FC76345D3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E9EEE95-8C09-4E2E-8EBE-082F91C0C47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712C0-0AD6-46E1-B0FE-DC32E2BF7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6C3DF91-3233-44BA-91FA-725BDAFADBF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F026CDB-05B8-411F-903E-244642CCE15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10FB3D-771D-436D-8FC7-818FE09D188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B7B0982-EB30-44CE-B732-D433F213969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9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AEF2995-9606-4BEE-B7F4-C0CDD94B96C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0E7AB04-D2C0-4076-AF84-453D13C75DA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F8513B1-B574-4058-8311-70F190527AB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359A938-3A35-4B32-B57F-DA72E051309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A967229-A8CA-491C-AB5A-7B56E37D1C8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E55CEC2-2319-4630-B3ED-D5DC68E5537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46C4D-091B-4315-8ACA-56E5F51E8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CA23ACE-AE54-4D10-A845-295A2538ADB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30C4E10-1783-4571-BB47-85FE0CF4462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BDF6BDA-41D4-4358-A6A6-E580579E184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E70FC73-11E4-4962-80AE-4653DE9B6CC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0088C4F-4ACB-40F9-A346-1F4AF35598B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A68735E-DA9A-4A98-A89A-99699B622F8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65C0EFD-A87D-4646-A220-1DF896E3F30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0ED1-FFC2-436A-97A9-18874546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F1AB1-AB01-4619-A781-6409B2D66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FB0FA-8E98-4756-93F8-641DDA74F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4AC0D-A9A6-4AA5-8C37-35A315F79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BD6EF-6A09-4B32-B444-C3AEC7CAB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37B74-5401-4002-B5FB-2CA565428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D5121-5B25-424D-A36F-1014B3CAC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F9C22-8668-4DA3-B968-5E791931B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98E38E-0477-468C-A884-E46416D5B9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238771-19CB-48E4-8881-CF6834CBE7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F09AA-5A50-470E-9198-0B0886E311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CB3F-DA22-4D3B-BD1B-10B20A65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446BC-4668-4E72-BC15-A9E840E01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BD9D5-AD11-460A-922B-6F7AD26FC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403F0D-AB2D-4A5D-ACD2-B81D7D895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65C88-DC19-4268-B15F-7C6A8B125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8E0E3-C377-456F-9991-2431D99C7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D3985-FC3A-40F7-AA74-207975D22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AFAAD-DDA1-4C0A-A790-0C12064F1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2BFD1-88B2-4D4E-B0E5-3C4C5286D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72FEE-4912-4E58-AF8C-2B5909AD4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173272-B563-45E8-A887-1A6356F7B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5671-0734-458B-ADDB-DEBACB622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BE595-27B8-497E-9FE4-8651BC3BAD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DDAD3F-C32B-4B68-9B64-D4EB86EF5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6620ED-075A-4C2F-AA27-596FFDAA1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B6645-51F5-4848-862C-F6EEB6ACE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B2309-4D59-48BC-A8C7-53CAB1A19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C45F0-F472-44A9-94F8-750BCA570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96071-C741-4EDD-AA2D-641329B981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3BBC5-E436-4218-AA1A-792C3FD8F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AA43C-1A8F-4513-AEAD-07F7FC305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4CCFF-BB0B-4127-9A8E-0FB18DB9B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8B6D-7E36-484F-B22E-A9A29C2DF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9C538B-D542-4D1F-93CD-4D9B4A3DB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275BF3-012D-4912-8BA5-2769BFD45A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EFECC-CC92-465A-9E15-255FE486A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1FFF34-BB51-46C0-81F6-33C647C2FE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1678D-2029-4DFA-8137-5C2D62A25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AED20-70AA-46C1-BC37-B662A22B0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71086-E69A-460D-8E61-A0BE067F13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4D810A-3397-4735-9AF6-4E34FFF9F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F6D65-FC5D-4C94-9E2B-5504D456B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E118C-46A4-46AE-B16F-6D978A566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2D427-D1CA-45B7-B1A3-81983CE4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2009C-7F1C-42C3-B620-37436770D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EB10B-2AF3-4CBE-B97F-103F22288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8E624-D2E9-4899-979B-51759A8268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015789-65E0-4B7D-9D69-B92654DE96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F1CD97-6A72-4AC8-A8C7-460555D1F5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D3F37F-3B65-4824-8470-335BC6115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7895A-EFCA-4527-B085-611AD86D20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253B0-AC98-4990-8965-9F7499D72B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7208B-DF11-4F05-8BA8-DDD46D748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B0F6E2-7E51-431B-9ADB-36DC2AD22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160D-B097-4244-BA2D-C6DA093E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B77ED-AB6F-438F-BC32-649A33642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C27E8-E16B-4038-B8C9-FAA103746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7C4D0-D4B0-4E5E-BC9E-734967022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58911-955B-4627-A62F-5589542042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84A04-27A2-4AF8-87DD-B87979CEF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C8AAD1-B9D3-44F0-831D-68BBE639AC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CA6936-8BF6-4749-BEDA-5FC7F4E837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4102F4-9B7C-418A-B53D-3A02EF7077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B9694-9A39-4F96-8933-DA60C28CB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5D1ACE-366F-4C46-86B7-DE10205B71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3.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2E83-1FE4-49F9-AD63-B4567AC52389}"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9" name="Right Triangle 13"/>
          <p:cNvGrpSpPr/>
          <p:nvPr/>
        </p:nvGrpSpPr>
        <p:grpSpPr>
          <a:xfrm>
            <a:off x="-12600" y="5784840"/>
            <a:ext cx="3414600" cy="1092240"/>
            <a:chOff x="-12600" y="5784840"/>
            <a:chExt cx="3414600" cy="1092240"/>
          </a:xfrm>
        </p:grpSpPr>
        <p:pic>
          <p:nvPicPr>
            <p:cNvPr id="410" name="Right Triangle 13" descr=""/>
            <p:cNvPicPr/>
            <p:nvPr/>
          </p:nvPicPr>
          <p:blipFill>
            <a:blip r:embed="rId3"/>
            <a:stretch/>
          </p:blipFill>
          <p:spPr>
            <a:xfrm>
              <a:off x="-12600" y="5784840"/>
              <a:ext cx="3414600" cy="1092240"/>
            </a:xfrm>
            <a:prstGeom prst="rect">
              <a:avLst/>
            </a:prstGeom>
            <a:ln w="0">
              <a:noFill/>
            </a:ln>
          </p:spPr>
        </p:pic>
        <p:sp>
          <p:nvSpPr>
            <p:cNvPr id="4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2" name="Straight Connector 14" descr=""/>
          <p:cNvPicPr/>
          <p:nvPr/>
        </p:nvPicPr>
        <p:blipFill>
          <a:blip r:embed="rId4"/>
          <a:stretch/>
        </p:blipFill>
        <p:spPr>
          <a:xfrm>
            <a:off x="-19080" y="5772240"/>
            <a:ext cx="3421080" cy="1109520"/>
          </a:xfrm>
          <a:prstGeom prst="rect">
            <a:avLst/>
          </a:prstGeom>
          <a:ln w="0">
            <a:noFill/>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1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E69E-451E-4B36-962D-CC307ABC3301}"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5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CD30-CCDA-4E43-8E04-A4706F5BB9BF}"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Right Triangle 13"/>
          <p:cNvGrpSpPr/>
          <p:nvPr/>
        </p:nvGrpSpPr>
        <p:grpSpPr>
          <a:xfrm>
            <a:off x="-12600" y="5784840"/>
            <a:ext cx="3414600" cy="1092240"/>
            <a:chOff x="-12600" y="5784840"/>
            <a:chExt cx="3414600" cy="1092240"/>
          </a:xfrm>
        </p:grpSpPr>
        <p:pic>
          <p:nvPicPr>
            <p:cNvPr id="498" name="Right Triangle 13" descr=""/>
            <p:cNvPicPr/>
            <p:nvPr/>
          </p:nvPicPr>
          <p:blipFill>
            <a:blip r:embed="rId3"/>
            <a:stretch/>
          </p:blipFill>
          <p:spPr>
            <a:xfrm>
              <a:off x="-12600" y="5784840"/>
              <a:ext cx="3414600" cy="1092240"/>
            </a:xfrm>
            <a:prstGeom prst="rect">
              <a:avLst/>
            </a:prstGeom>
            <a:ln w="0">
              <a:noFill/>
            </a:ln>
          </p:spPr>
        </p:pic>
        <p:sp>
          <p:nvSpPr>
            <p:cNvPr id="49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00" name="Straight Connector 14" descr=""/>
          <p:cNvPicPr/>
          <p:nvPr/>
        </p:nvPicPr>
        <p:blipFill>
          <a:blip r:embed="rId4"/>
          <a:stretch/>
        </p:blipFill>
        <p:spPr>
          <a:xfrm>
            <a:off x="-19080" y="5772240"/>
            <a:ext cx="3421080" cy="11095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0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FD59-92F5-441D-926B-A46EFD99927E}"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4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8174-AA59-4B76-9E92-C9FA4C5736EA}"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5" name="Right Triangle 16"/>
          <p:cNvGrpSpPr/>
          <p:nvPr/>
        </p:nvGrpSpPr>
        <p:grpSpPr>
          <a:xfrm>
            <a:off x="-12600" y="5784840"/>
            <a:ext cx="3414600" cy="1092240"/>
            <a:chOff x="-12600" y="5784840"/>
            <a:chExt cx="3414600" cy="1092240"/>
          </a:xfrm>
        </p:grpSpPr>
        <p:pic>
          <p:nvPicPr>
            <p:cNvPr id="586" name="Right Triangle 16" descr=""/>
            <p:cNvPicPr/>
            <p:nvPr/>
          </p:nvPicPr>
          <p:blipFill>
            <a:blip r:embed="rId3"/>
            <a:stretch/>
          </p:blipFill>
          <p:spPr>
            <a:xfrm>
              <a:off x="-12600" y="5784840"/>
              <a:ext cx="3414600" cy="1092240"/>
            </a:xfrm>
            <a:prstGeom prst="rect">
              <a:avLst/>
            </a:prstGeom>
            <a:ln w="0">
              <a:noFill/>
            </a:ln>
          </p:spPr>
        </p:pic>
        <p:sp>
          <p:nvSpPr>
            <p:cNvPr id="5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88" name="Straight Connector 18" descr=""/>
          <p:cNvPicPr/>
          <p:nvPr/>
        </p:nvPicPr>
        <p:blipFill>
          <a:blip r:embed="rId4"/>
          <a:stretch/>
        </p:blipFill>
        <p:spPr>
          <a:xfrm>
            <a:off x="-19080" y="5772240"/>
            <a:ext cx="3421080" cy="1109520"/>
          </a:xfrm>
          <a:prstGeom prst="rect">
            <a:avLst/>
          </a:prstGeom>
          <a:ln w="0">
            <a:noFill/>
          </a:ln>
        </p:spPr>
      </p:pic>
      <p:sp>
        <p:nvSpPr>
          <p:cNvPr id="589"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9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D1CE-98F8-4F05-8E1A-0C3AB6755C5D}"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4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PlaceHolder 5"/>
          <p:cNvSpPr>
            <a:spLocks noGrp="1"/>
          </p:cNvSpPr>
          <p:nvPr>
            <p:ph type="sldNum" idx="45"/>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D104-3F57-43C5-B5CE-AF03957BD21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93"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94"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PlaceHolder 5"/>
          <p:cNvSpPr>
            <a:spLocks noGrp="1"/>
          </p:cNvSpPr>
          <p:nvPr>
            <p:ph type="sldNum" idx="48"/>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81F6-63E3-46C0-A3FA-941960B70DD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1"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45" name="PlaceHolder 3"/>
          <p:cNvSpPr>
            <a:spLocks noGrp="1"/>
          </p:cNvSpPr>
          <p:nvPr>
            <p:ph type="ftr" idx="4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47"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EE81-9B5F-411A-A50A-D2EBC487AE6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3"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9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96" name="PlaceHolder 3"/>
          <p:cNvSpPr>
            <a:spLocks noGrp="1"/>
          </p:cNvSpPr>
          <p:nvPr>
            <p:ph type="dt" idx="52"/>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97"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PlaceHolder 5"/>
          <p:cNvSpPr>
            <a:spLocks noGrp="1"/>
          </p:cNvSpPr>
          <p:nvPr>
            <p:ph type="sldNum" idx="5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B68F-910F-49A8-A6C4-1606DA7FE0F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3"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4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4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49" name="PlaceHolder 4"/>
          <p:cNvSpPr>
            <a:spLocks noGrp="1"/>
          </p:cNvSpPr>
          <p:nvPr>
            <p:ph type="ftr" idx="5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PlaceHolder 5"/>
          <p:cNvSpPr>
            <a:spLocks noGrp="1"/>
          </p:cNvSpPr>
          <p:nvPr>
            <p:ph type="sldNum" idx="57"/>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07DD-960E-4DD2-A3AD-4A2ADD23451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2F4C-5B8F-49E1-99D4-A6382AA182F8}" type="slidenum">
              <a:rPr b="0" lang="en-A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9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98"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99"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PlaceHolder 5"/>
          <p:cNvSpPr>
            <a:spLocks noGrp="1"/>
          </p:cNvSpPr>
          <p:nvPr>
            <p:ph type="sldNum" idx="60"/>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E8F0-30C1-4D41-9C28-DCC4AD44DD4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45"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46" name="PlaceHolder 4"/>
          <p:cNvSpPr>
            <a:spLocks noGrp="1"/>
          </p:cNvSpPr>
          <p:nvPr>
            <p:ph type="ftr" idx="6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63"/>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E1A1-D6B2-4A2F-9207-5312755E8A66}"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9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97"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31C9-D681-460B-956D-93A0FB064C8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98" name="PlaceHolder 4"/>
          <p:cNvSpPr>
            <a:spLocks noGrp="1"/>
          </p:cNvSpPr>
          <p:nvPr>
            <p:ph type="dt" idx="6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99" name="PlaceHolder 5"/>
          <p:cNvSpPr>
            <a:spLocks noGrp="1"/>
          </p:cNvSpPr>
          <p:nvPr>
            <p:ph type="ftr" idx="6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49" name="PlaceHolder 3"/>
          <p:cNvSpPr>
            <a:spLocks noGrp="1"/>
          </p:cNvSpPr>
          <p:nvPr>
            <p:ph type="sldNum" idx="67"/>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C7AC-7975-4FCE-A94D-699EB8A0E6D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050" name="PlaceHolder 4"/>
          <p:cNvSpPr>
            <a:spLocks noGrp="1"/>
          </p:cNvSpPr>
          <p:nvPr>
            <p:ph type="dt" idx="68"/>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51" name="PlaceHolder 5"/>
          <p:cNvSpPr>
            <a:spLocks noGrp="1"/>
          </p:cNvSpPr>
          <p:nvPr>
            <p:ph type="ftr" idx="6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8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9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99" name="PlaceHolder 3"/>
          <p:cNvSpPr>
            <a:spLocks noGrp="1"/>
          </p:cNvSpPr>
          <p:nvPr>
            <p:ph type="dt" idx="7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00" name="PlaceHolder 4"/>
          <p:cNvSpPr>
            <a:spLocks noGrp="1"/>
          </p:cNvSpPr>
          <p:nvPr>
            <p:ph type="ftr" idx="7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PlaceHolder 5"/>
          <p:cNvSpPr>
            <a:spLocks noGrp="1"/>
          </p:cNvSpPr>
          <p:nvPr>
            <p:ph type="sldNum" idx="7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C04A-7173-4F49-B85D-B8353330A16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3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1"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5"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49" name="PlaceHolder 3"/>
          <p:cNvSpPr>
            <a:spLocks noGrp="1"/>
          </p:cNvSpPr>
          <p:nvPr>
            <p:ph type="sldNum" idx="73"/>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0D5F-69BC-4905-8098-5CAE93D8BC19}"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50" name="PlaceHolder 4"/>
          <p:cNvSpPr>
            <a:spLocks noGrp="1"/>
          </p:cNvSpPr>
          <p:nvPr>
            <p:ph type="dt" idx="7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51" name="PlaceHolder 5"/>
          <p:cNvSpPr>
            <a:spLocks noGrp="1"/>
          </p:cNvSpPr>
          <p:nvPr>
            <p:ph type="ftr" idx="7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8" name="Rectangle 7"/>
          <p:cNvGrpSpPr/>
          <p:nvPr/>
        </p:nvGrpSpPr>
        <p:grpSpPr>
          <a:xfrm>
            <a:off x="2664000" y="-6480"/>
            <a:ext cx="6486480" cy="6870960"/>
            <a:chOff x="2664000" y="-6480"/>
            <a:chExt cx="6486480" cy="6870960"/>
          </a:xfrm>
        </p:grpSpPr>
        <p:pic>
          <p:nvPicPr>
            <p:cNvPr id="1189" name="Rectangle 7" descr=""/>
            <p:cNvPicPr/>
            <p:nvPr/>
          </p:nvPicPr>
          <p:blipFill>
            <a:blip r:embed="rId3"/>
            <a:stretch/>
          </p:blipFill>
          <p:spPr>
            <a:xfrm>
              <a:off x="2664000" y="-6480"/>
              <a:ext cx="6486480" cy="6870960"/>
            </a:xfrm>
            <a:prstGeom prst="rect">
              <a:avLst/>
            </a:prstGeom>
            <a:ln w="0">
              <a:noFill/>
            </a:ln>
          </p:spPr>
        </p:pic>
        <p:sp>
          <p:nvSpPr>
            <p:cNvPr id="119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1"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1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194" name="PlaceHolder 3"/>
          <p:cNvSpPr>
            <a:spLocks noGrp="1"/>
          </p:cNvSpPr>
          <p:nvPr>
            <p:ph type="dt" idx="76"/>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1195" name="PlaceHolder 4"/>
          <p:cNvSpPr>
            <a:spLocks noGrp="1"/>
          </p:cNvSpPr>
          <p:nvPr>
            <p:ph type="ftr" idx="77"/>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PlaceHolder 5"/>
          <p:cNvSpPr>
            <a:spLocks noGrp="1"/>
          </p:cNvSpPr>
          <p:nvPr>
            <p:ph type="sldNum" idx="78"/>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0E1D-B489-4954-AC83-C29E4402B120}" type="slidenum">
              <a:rPr b="0" lang="en-A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Rectangle 8"/>
          <p:cNvGrpSpPr/>
          <p:nvPr/>
        </p:nvGrpSpPr>
        <p:grpSpPr>
          <a:xfrm>
            <a:off x="8150400" y="-6480"/>
            <a:ext cx="1000080" cy="6870960"/>
            <a:chOff x="8150400" y="-6480"/>
            <a:chExt cx="1000080" cy="6870960"/>
          </a:xfrm>
        </p:grpSpPr>
        <p:pic>
          <p:nvPicPr>
            <p:cNvPr id="1234" name="Rectangle 8" descr=""/>
            <p:cNvPicPr/>
            <p:nvPr/>
          </p:nvPicPr>
          <p:blipFill>
            <a:blip r:embed="rId2"/>
            <a:stretch/>
          </p:blipFill>
          <p:spPr>
            <a:xfrm>
              <a:off x="8150400" y="-6480"/>
              <a:ext cx="1000080" cy="6870960"/>
            </a:xfrm>
            <a:prstGeom prst="rect">
              <a:avLst/>
            </a:prstGeom>
            <a:ln w="0">
              <a:noFill/>
            </a:ln>
          </p:spPr>
        </p:pic>
        <p:sp>
          <p:nvSpPr>
            <p:cNvPr id="12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2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238" name="PlaceHolder 3"/>
          <p:cNvSpPr>
            <a:spLocks noGrp="1"/>
          </p:cNvSpPr>
          <p:nvPr>
            <p:ph type="dt" idx="79"/>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239" name="PlaceHolder 4"/>
          <p:cNvSpPr>
            <a:spLocks noGrp="1"/>
          </p:cNvSpPr>
          <p:nvPr>
            <p:ph type="ftr" idx="80"/>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PlaceHolder 5"/>
          <p:cNvSpPr>
            <a:spLocks noGrp="1"/>
          </p:cNvSpPr>
          <p:nvPr>
            <p:ph type="sldNum" idx="81"/>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260F-DDC4-4CA5-AA7D-4078F09E6D61}"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7"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2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281" name="PlaceHolder 3"/>
          <p:cNvSpPr>
            <a:spLocks noGrp="1"/>
          </p:cNvSpPr>
          <p:nvPr>
            <p:ph type="dt" idx="82"/>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282" name="PlaceHolder 4"/>
          <p:cNvSpPr>
            <a:spLocks noGrp="1"/>
          </p:cNvSpPr>
          <p:nvPr>
            <p:ph type="ftr" idx="83"/>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PlaceHolder 5"/>
          <p:cNvSpPr>
            <a:spLocks noGrp="1"/>
          </p:cNvSpPr>
          <p:nvPr>
            <p:ph type="sldNum" idx="8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507B-AA68-4B87-8A48-8DA44D6662A4}" type="slidenum">
              <a:rPr b="0" lang="en-A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0" name="Rectangle 8"/>
          <p:cNvGrpSpPr/>
          <p:nvPr/>
        </p:nvGrpSpPr>
        <p:grpSpPr>
          <a:xfrm>
            <a:off x="8150400" y="-6480"/>
            <a:ext cx="1000080" cy="6870960"/>
            <a:chOff x="8150400" y="-6480"/>
            <a:chExt cx="1000080" cy="6870960"/>
          </a:xfrm>
        </p:grpSpPr>
        <p:pic>
          <p:nvPicPr>
            <p:cNvPr id="1321" name="Rectangle 8" descr=""/>
            <p:cNvPicPr/>
            <p:nvPr/>
          </p:nvPicPr>
          <p:blipFill>
            <a:blip r:embed="rId2"/>
            <a:stretch/>
          </p:blipFill>
          <p:spPr>
            <a:xfrm>
              <a:off x="8150400" y="-6480"/>
              <a:ext cx="1000080" cy="6870960"/>
            </a:xfrm>
            <a:prstGeom prst="rect">
              <a:avLst/>
            </a:prstGeom>
            <a:ln w="0">
              <a:noFill/>
            </a:ln>
          </p:spPr>
        </p:pic>
        <p:sp>
          <p:nvSpPr>
            <p:cNvPr id="13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25" name="PlaceHolder 3"/>
          <p:cNvSpPr>
            <a:spLocks noGrp="1"/>
          </p:cNvSpPr>
          <p:nvPr>
            <p:ph type="dt" idx="85"/>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326" name="PlaceHolder 4"/>
          <p:cNvSpPr>
            <a:spLocks noGrp="1"/>
          </p:cNvSpPr>
          <p:nvPr>
            <p:ph type="ftr" idx="86"/>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PlaceHolder 5"/>
          <p:cNvSpPr>
            <a:spLocks noGrp="1"/>
          </p:cNvSpPr>
          <p:nvPr>
            <p:ph type="sldNum" idx="87"/>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3DB4-B9FF-46D3-B5AE-CB78B2A257AF}"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Right Triangle 13"/>
          <p:cNvGrpSpPr/>
          <p:nvPr/>
        </p:nvGrpSpPr>
        <p:grpSpPr>
          <a:xfrm>
            <a:off x="-12600" y="5784840"/>
            <a:ext cx="3414600" cy="1092240"/>
            <a:chOff x="-12600" y="5784840"/>
            <a:chExt cx="3414600" cy="1092240"/>
          </a:xfrm>
        </p:grpSpPr>
        <p:pic>
          <p:nvPicPr>
            <p:cNvPr id="85" name="Right Triangle 13" descr=""/>
            <p:cNvPicPr/>
            <p:nvPr/>
          </p:nvPicPr>
          <p:blipFill>
            <a:blip r:embed="rId2"/>
            <a:stretch/>
          </p:blipFill>
          <p:spPr>
            <a:xfrm>
              <a:off x="-12600" y="5784840"/>
              <a:ext cx="3414600" cy="1092240"/>
            </a:xfrm>
            <a:prstGeom prst="rect">
              <a:avLst/>
            </a:prstGeom>
            <a:ln w="0">
              <a:noFill/>
            </a:ln>
          </p:spPr>
        </p:pic>
        <p:sp>
          <p:nvSpPr>
            <p:cNvPr id="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7" name="Straight Connector 14" descr=""/>
          <p:cNvPicPr/>
          <p:nvPr/>
        </p:nvPicPr>
        <p:blipFill>
          <a:blip r:embed="rId3"/>
          <a:stretch/>
        </p:blipFill>
        <p:spPr>
          <a:xfrm>
            <a:off x="-19080" y="5772240"/>
            <a:ext cx="3421080" cy="11095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A445-2993-462D-9195-9C5EA2FFC178}"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6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5" name="Rounded Rectangle 10"/>
          <p:cNvGrpSpPr/>
          <p:nvPr/>
        </p:nvGrpSpPr>
        <p:grpSpPr>
          <a:xfrm>
            <a:off x="414360" y="426960"/>
            <a:ext cx="8315280" cy="3121200"/>
            <a:chOff x="414360" y="426960"/>
            <a:chExt cx="8315280" cy="3121200"/>
          </a:xfrm>
        </p:grpSpPr>
        <p:pic>
          <p:nvPicPr>
            <p:cNvPr id="1366" name="Rounded Rectangle 10" descr=""/>
            <p:cNvPicPr/>
            <p:nvPr/>
          </p:nvPicPr>
          <p:blipFill>
            <a:blip r:embed="rId2"/>
            <a:stretch/>
          </p:blipFill>
          <p:spPr>
            <a:xfrm>
              <a:off x="414360" y="426960"/>
              <a:ext cx="8315280" cy="3121200"/>
            </a:xfrm>
            <a:prstGeom prst="rect">
              <a:avLst/>
            </a:prstGeom>
            <a:ln w="0">
              <a:noFill/>
            </a:ln>
          </p:spPr>
        </p:pic>
        <p:sp>
          <p:nvSpPr>
            <p:cNvPr id="1367"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0" name="PlaceHolder 3"/>
          <p:cNvSpPr>
            <a:spLocks noGrp="1"/>
          </p:cNvSpPr>
          <p:nvPr>
            <p:ph type="dt" idx="8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71" name="PlaceHolder 4"/>
          <p:cNvSpPr>
            <a:spLocks noGrp="1"/>
          </p:cNvSpPr>
          <p:nvPr>
            <p:ph type="ftr" idx="8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PlaceHolder 5"/>
          <p:cNvSpPr>
            <a:spLocks noGrp="1"/>
          </p:cNvSpPr>
          <p:nvPr>
            <p:ph type="sldNum" idx="9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DBF9-F358-43FA-8086-2007408F7A05}"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0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0" name="Rounded Rectangle 10"/>
          <p:cNvGrpSpPr/>
          <p:nvPr/>
        </p:nvGrpSpPr>
        <p:grpSpPr>
          <a:xfrm>
            <a:off x="414360" y="426960"/>
            <a:ext cx="8315280" cy="4353120"/>
            <a:chOff x="414360" y="426960"/>
            <a:chExt cx="8315280" cy="4353120"/>
          </a:xfrm>
        </p:grpSpPr>
        <p:pic>
          <p:nvPicPr>
            <p:cNvPr id="1411" name="Rounded Rectangle 10" descr=""/>
            <p:cNvPicPr/>
            <p:nvPr/>
          </p:nvPicPr>
          <p:blipFill>
            <a:blip r:embed="rId2"/>
            <a:stretch/>
          </p:blipFill>
          <p:spPr>
            <a:xfrm>
              <a:off x="414360" y="426960"/>
              <a:ext cx="8315280" cy="4353120"/>
            </a:xfrm>
            <a:prstGeom prst="rect">
              <a:avLst/>
            </a:prstGeom>
            <a:ln w="0">
              <a:noFill/>
            </a:ln>
          </p:spPr>
        </p:pic>
        <p:sp>
          <p:nvSpPr>
            <p:cNvPr id="1412"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1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15" name="PlaceHolder 3"/>
          <p:cNvSpPr>
            <a:spLocks noGrp="1"/>
          </p:cNvSpPr>
          <p:nvPr>
            <p:ph type="dt" idx="9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16" name="PlaceHolder 4"/>
          <p:cNvSpPr>
            <a:spLocks noGrp="1"/>
          </p:cNvSpPr>
          <p:nvPr>
            <p:ph type="ftr" idx="9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PlaceHolder 5"/>
          <p:cNvSpPr>
            <a:spLocks noGrp="1"/>
          </p:cNvSpPr>
          <p:nvPr>
            <p:ph type="sldNum" idx="9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632A-1771-414D-A093-8D6F9AA93BB7}"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5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5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57" name="PlaceHolder 3"/>
          <p:cNvSpPr>
            <a:spLocks noGrp="1"/>
          </p:cNvSpPr>
          <p:nvPr>
            <p:ph type="dt" idx="9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58" name="PlaceHolder 4"/>
          <p:cNvSpPr>
            <a:spLocks noGrp="1"/>
          </p:cNvSpPr>
          <p:nvPr>
            <p:ph type="ftr" idx="9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9" name="PlaceHolder 5"/>
          <p:cNvSpPr>
            <a:spLocks noGrp="1"/>
          </p:cNvSpPr>
          <p:nvPr>
            <p:ph type="sldNum" idx="9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5354-04F7-4244-85F0-3ADC0A904432}"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9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9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00" name="PlaceHolder 3"/>
          <p:cNvSpPr>
            <a:spLocks noGrp="1"/>
          </p:cNvSpPr>
          <p:nvPr>
            <p:ph type="dt" idx="9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501" name="PlaceHolder 4"/>
          <p:cNvSpPr>
            <a:spLocks noGrp="1"/>
          </p:cNvSpPr>
          <p:nvPr>
            <p:ph type="ftr" idx="9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PlaceHolder 5"/>
          <p:cNvSpPr>
            <a:spLocks noGrp="1"/>
          </p:cNvSpPr>
          <p:nvPr>
            <p:ph type="sldNum" idx="9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0404-57D5-4D1E-A3CD-1262494361C5}"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5" name="PlaceHolder 2"/>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PlaceHolder 3"/>
          <p:cNvSpPr>
            <a:spLocks noGrp="1"/>
          </p:cNvSpPr>
          <p:nvPr>
            <p:ph type="sldNum" idx="1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20DB-B610-4417-8C7F-F159E102B30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41"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42"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Rectangle 8"/>
          <p:cNvGrpSpPr/>
          <p:nvPr/>
        </p:nvGrpSpPr>
        <p:grpSpPr>
          <a:xfrm>
            <a:off x="8150400" y="-6480"/>
            <a:ext cx="1000080" cy="6870960"/>
            <a:chOff x="8150400" y="-6480"/>
            <a:chExt cx="1000080" cy="6870960"/>
          </a:xfrm>
        </p:grpSpPr>
        <p:pic>
          <p:nvPicPr>
            <p:cNvPr id="180" name="Rectangle 8" descr=""/>
            <p:cNvPicPr/>
            <p:nvPr/>
          </p:nvPicPr>
          <p:blipFill>
            <a:blip r:embed="rId2"/>
            <a:stretch/>
          </p:blipFill>
          <p:spPr>
            <a:xfrm>
              <a:off x="8150400" y="-6480"/>
              <a:ext cx="1000080" cy="6870960"/>
            </a:xfrm>
            <a:prstGeom prst="rect">
              <a:avLst/>
            </a:prstGeom>
            <a:ln w="0">
              <a:noFill/>
            </a:ln>
          </p:spPr>
        </p:pic>
        <p:sp>
          <p:nvSpPr>
            <p:cNvPr id="18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4"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CC44-507D-4F4F-969F-688D4868CD3B}"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4" name="Rounded Rectangle 8"/>
          <p:cNvGrpSpPr/>
          <p:nvPr/>
        </p:nvGrpSpPr>
        <p:grpSpPr>
          <a:xfrm>
            <a:off x="414360" y="426960"/>
            <a:ext cx="8315280" cy="5497560"/>
            <a:chOff x="414360" y="426960"/>
            <a:chExt cx="8315280" cy="5497560"/>
          </a:xfrm>
        </p:grpSpPr>
        <p:pic>
          <p:nvPicPr>
            <p:cNvPr id="225" name="Rounded Rectangle 8" descr=""/>
            <p:cNvPicPr/>
            <p:nvPr/>
          </p:nvPicPr>
          <p:blipFill>
            <a:blip r:embed="rId2"/>
            <a:stretch/>
          </p:blipFill>
          <p:spPr>
            <a:xfrm>
              <a:off x="414360" y="426960"/>
              <a:ext cx="8315280" cy="5497560"/>
            </a:xfrm>
            <a:prstGeom prst="rect">
              <a:avLst/>
            </a:prstGeom>
            <a:ln w="0">
              <a:noFill/>
            </a:ln>
          </p:spPr>
        </p:pic>
        <p:sp>
          <p:nvSpPr>
            <p:cNvPr id="226"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9"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30"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5036-CC1A-4F42-AA72-5C7BE36F0439}"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6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70"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71"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7B49-1D9B-41D1-9A54-B29A49084228}" type="slidenum">
              <a:rPr b="0" lang="en-A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Group 15"/>
          <p:cNvGrpSpPr/>
          <p:nvPr/>
        </p:nvGrpSpPr>
        <p:grpSpPr>
          <a:xfrm>
            <a:off x="-3240" y="4952880"/>
            <a:ext cx="9147240" cy="1911600"/>
            <a:chOff x="-3240" y="4952880"/>
            <a:chExt cx="9147240" cy="1911600"/>
          </a:xfrm>
        </p:grpSpPr>
        <p:sp>
          <p:nvSpPr>
            <p:cNvPr id="311"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Freeform 19"/>
            <p:cNvGrpSpPr/>
            <p:nvPr/>
          </p:nvGrpSpPr>
          <p:grpSpPr>
            <a:xfrm>
              <a:off x="2520" y="4992120"/>
              <a:ext cx="9141480" cy="1872360"/>
              <a:chOff x="2520" y="4992120"/>
              <a:chExt cx="9141480" cy="1872360"/>
            </a:xfrm>
          </p:grpSpPr>
          <p:pic>
            <p:nvPicPr>
              <p:cNvPr id="314" name="Freeform 19" descr=""/>
              <p:cNvPicPr/>
              <p:nvPr/>
            </p:nvPicPr>
            <p:blipFill>
              <a:blip r:embed="rId2"/>
              <a:stretch/>
            </p:blipFill>
            <p:spPr>
              <a:xfrm>
                <a:off x="2520" y="4992120"/>
                <a:ext cx="9141480" cy="1872360"/>
              </a:xfrm>
              <a:prstGeom prst="rect">
                <a:avLst/>
              </a:prstGeom>
              <a:ln w="0">
                <a:noFill/>
              </a:ln>
            </p:spPr>
          </p:pic>
          <p:sp>
            <p:nvSpPr>
              <p:cNvPr id="315"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16" name="Straight Connector 20" descr=""/>
            <p:cNvPicPr/>
            <p:nvPr/>
          </p:nvPicPr>
          <p:blipFill>
            <a:blip r:embed="rId3"/>
            <a:stretch/>
          </p:blipFill>
          <p:spPr>
            <a:xfrm>
              <a:off x="-3240" y="4986000"/>
              <a:ext cx="9147240" cy="814320"/>
            </a:xfrm>
            <a:prstGeom prst="rect">
              <a:avLst/>
            </a:prstGeom>
            <a:ln w="0">
              <a:noFill/>
            </a:ln>
          </p:spPr>
        </p:pic>
      </p:gr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2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151B-48FF-47D0-BF89-BC0E0B88F65F}"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0" name="Right Triangle 13"/>
          <p:cNvGrpSpPr/>
          <p:nvPr/>
        </p:nvGrpSpPr>
        <p:grpSpPr>
          <a:xfrm>
            <a:off x="-12600" y="5784840"/>
            <a:ext cx="3414600" cy="1092240"/>
            <a:chOff x="-12600" y="5784840"/>
            <a:chExt cx="3414600" cy="1092240"/>
          </a:xfrm>
        </p:grpSpPr>
        <p:pic>
          <p:nvPicPr>
            <p:cNvPr id="361" name="Right Triangle 13" descr=""/>
            <p:cNvPicPr/>
            <p:nvPr/>
          </p:nvPicPr>
          <p:blipFill>
            <a:blip r:embed="rId3"/>
            <a:stretch/>
          </p:blipFill>
          <p:spPr>
            <a:xfrm>
              <a:off x="-12600" y="5784840"/>
              <a:ext cx="3414600" cy="1092240"/>
            </a:xfrm>
            <a:prstGeom prst="rect">
              <a:avLst/>
            </a:prstGeom>
            <a:ln w="0">
              <a:noFill/>
            </a:ln>
          </p:spPr>
        </p:pic>
        <p:sp>
          <p:nvSpPr>
            <p:cNvPr id="3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63" name="Straight Connector 14" descr=""/>
          <p:cNvPicPr/>
          <p:nvPr/>
        </p:nvPicPr>
        <p:blipFill>
          <a:blip r:embed="rId4"/>
          <a:stretch/>
        </p:blipFill>
        <p:spPr>
          <a:xfrm>
            <a:off x="-19080" y="5772240"/>
            <a:ext cx="3421080" cy="1109520"/>
          </a:xfrm>
          <a:prstGeom prst="rect">
            <a:avLst/>
          </a:prstGeom>
          <a:ln w="0">
            <a:noFill/>
          </a:ln>
        </p:spPr>
      </p:pic>
      <p:sp>
        <p:nvSpPr>
          <p:cNvPr id="36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4A01-9DC7-4256-A0F4-3DDD27F05A27}"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Title 1" descr=""/>
          <p:cNvPicPr/>
          <p:nvPr/>
        </p:nvPicPr>
        <p:blipFill>
          <a:blip r:embed="rId1"/>
          <a:stretch/>
        </p:blipFill>
        <p:spPr>
          <a:xfrm>
            <a:off x="414360" y="500040"/>
            <a:ext cx="8242200" cy="29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8"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9"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0"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1" name=""/>
          <p:cNvSpPr txBox="1"/>
          <p:nvPr/>
        </p:nvSpPr>
        <p:spPr>
          <a:xfrm>
            <a:off x="457200" y="1481040"/>
            <a:ext cx="8229600" cy="4525920"/>
          </a:xfrm>
          <a:prstGeom prst="rect">
            <a:avLst/>
          </a:prstGeom>
          <a:noFill/>
          <a:ln w="0">
            <a:noFill/>
          </a:ln>
        </p:spPr>
        <p:txBody>
          <a:bodyPr lIns="90000" rIns="90000" tIns="46800" bIns="46800" anchor="t">
            <a:normAutofit/>
          </a:bodyPr>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otosynthesis:</a:t>
            </a:r>
            <a:r>
              <a:rPr b="1" lang="en-US" sz="2400" spc="-1" strike="noStrike">
                <a:solidFill>
                  <a:srgbClr val="000000"/>
                </a:solidFill>
                <a:latin typeface="Lucida Sans Unicode"/>
              </a:rPr>
              <a:t> </a:t>
            </a:r>
            <a:r>
              <a:rPr b="0" lang="en-US" sz="2400" spc="-1" strike="noStrike">
                <a:solidFill>
                  <a:srgbClr val="000000"/>
                </a:solidFill>
                <a:latin typeface="Lucida Sans Unicode"/>
              </a:rPr>
              <a:t>use of chlorophyll. </a:t>
            </a:r>
            <a:r>
              <a:rPr b="1" lang="en-US" sz="2400" spc="-1" strike="noStrike">
                <a:solidFill>
                  <a:srgbClr val="000000"/>
                </a:solidFill>
                <a:latin typeface="Lucida Sans Unicode"/>
              </a:rPr>
              <a:t>Energy storing process.</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6 C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  6 H</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O  +  </a:t>
            </a:r>
            <a:r>
              <a:rPr b="1" i="1" lang="en-US" sz="2000" spc="-1" strike="noStrike">
                <a:solidFill>
                  <a:srgbClr val="000000"/>
                </a:solidFill>
                <a:latin typeface="Lucida Sans Unicode"/>
              </a:rPr>
              <a:t>solar energy</a:t>
            </a:r>
            <a:r>
              <a:rPr b="0" lang="en-US" sz="2000" spc="-1" strike="noStrike">
                <a:solidFill>
                  <a:srgbClr val="000000"/>
                </a:solidFill>
                <a:latin typeface="Lucida Sans Unicode"/>
              </a:rPr>
              <a:t> </a:t>
            </a:r>
            <a:r>
              <a:rPr b="0" lang="en-US" sz="2000" spc="-1" strike="noStrike">
                <a:solidFill>
                  <a:srgbClr val="000000"/>
                </a:solidFill>
                <a:latin typeface="Wingdings"/>
                <a:ea typeface="Wingdings"/>
              </a:rPr>
              <a:t></a:t>
            </a:r>
            <a:r>
              <a:rPr b="0" lang="en-US" sz="2000" spc="-1" strike="noStrike">
                <a:solidFill>
                  <a:srgbClr val="000000"/>
                </a:solidFill>
                <a:latin typeface="Lucida Sans Unicode"/>
              </a:rPr>
              <a:t>  C</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H</a:t>
            </a:r>
            <a:r>
              <a:rPr b="0" lang="en-US" sz="2000" spc="-1" strike="noStrike" baseline="-25000">
                <a:solidFill>
                  <a:srgbClr val="000000"/>
                </a:solidFill>
                <a:latin typeface="Lucida Sans Unicode"/>
              </a:rPr>
              <a:t>12</a:t>
            </a:r>
            <a:r>
              <a:rPr b="0" lang="en-US" sz="2000" spc="-1" strike="noStrike">
                <a:solidFill>
                  <a:srgbClr val="000000"/>
                </a:solidFill>
                <a:latin typeface="Lucida Sans Unicode"/>
              </a:rPr>
              <a:t>O</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  +  6 O</a:t>
            </a:r>
            <a:r>
              <a:rPr b="0" lang="en-US" sz="2000" spc="-1" strike="noStrike" baseline="-25000">
                <a:solidFill>
                  <a:srgbClr val="000000"/>
                </a:solidFill>
                <a:latin typeface="Lucida Sans Unicode"/>
              </a:rPr>
              <a:t>2</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ellular Respiration:</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erobic Respiration: </a:t>
            </a:r>
            <a:r>
              <a:rPr b="1" lang="en-US" sz="2000" spc="-1" strike="noStrike">
                <a:solidFill>
                  <a:srgbClr val="000000"/>
                </a:solidFill>
                <a:latin typeface="Lucida Sans Unicode"/>
              </a:rPr>
              <a:t> energy releasing process.</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H</a:t>
            </a:r>
            <a:r>
              <a:rPr b="0" lang="en-US" sz="2000" spc="-1" strike="noStrike" baseline="-25000">
                <a:solidFill>
                  <a:srgbClr val="000000"/>
                </a:solidFill>
                <a:latin typeface="Lucida Sans Unicode"/>
              </a:rPr>
              <a:t>12</a:t>
            </a:r>
            <a:r>
              <a:rPr b="0" lang="en-US" sz="2000" spc="-1" strike="noStrike">
                <a:solidFill>
                  <a:srgbClr val="000000"/>
                </a:solidFill>
                <a:latin typeface="Lucida Sans Unicode"/>
              </a:rPr>
              <a:t>O</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  +  6 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a:t>
            </a:r>
            <a:r>
              <a:rPr b="0" lang="en-US" sz="2000" spc="-1" strike="noStrike">
                <a:solidFill>
                  <a:srgbClr val="000000"/>
                </a:solidFill>
                <a:latin typeface="Wingdings"/>
                <a:ea typeface="Wingdings"/>
              </a:rPr>
              <a:t></a:t>
            </a:r>
            <a:r>
              <a:rPr b="0" lang="en-US" sz="2000" spc="-1" strike="noStrike">
                <a:solidFill>
                  <a:srgbClr val="000000"/>
                </a:solidFill>
                <a:latin typeface="Lucida Sans Unicode"/>
              </a:rPr>
              <a:t>   6C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  6 H</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O  +  </a:t>
            </a:r>
            <a:r>
              <a:rPr b="1" i="1" lang="en-US" sz="2000" spc="-1" strike="noStrike">
                <a:solidFill>
                  <a:srgbClr val="000000"/>
                </a:solidFill>
                <a:latin typeface="Lucida Sans Unicode"/>
              </a:rPr>
              <a:t>energy</a:t>
            </a:r>
            <a:r>
              <a:rPr b="0" lang="en-US" sz="2000" spc="-1" strike="noStrike">
                <a:solidFill>
                  <a:srgbClr val="000000"/>
                </a:solidFill>
                <a:latin typeface="Lucida Sans Unicode"/>
              </a:rPr>
              <a:t>  (ATP)</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aerobic Respiration </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  Fermentation: </a:t>
            </a:r>
            <a:r>
              <a:rPr b="1" lang="en-US" sz="2000" spc="-1" strike="noStrike">
                <a:solidFill>
                  <a:srgbClr val="000000"/>
                </a:solidFill>
                <a:latin typeface="Lucida Sans Unicode"/>
              </a:rPr>
              <a:t>energy releasing process</a:t>
            </a:r>
            <a:r>
              <a:rPr b="0" lang="en-US" sz="2000" spc="-1" strike="noStrike">
                <a:solidFill>
                  <a:srgbClr val="000000"/>
                </a:solidFill>
                <a:latin typeface="Lucida Sans Unicode"/>
              </a:rPr>
              <a:t> used by yeast and bacteria</a:t>
            </a: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552" name="Rectangle 9" descr=""/>
          <p:cNvPicPr/>
          <p:nvPr/>
        </p:nvPicPr>
        <p:blipFill>
          <a:blip r:embed="rId1"/>
          <a:stretch/>
        </p:blipFill>
        <p:spPr>
          <a:xfrm>
            <a:off x="328680" y="176040"/>
            <a:ext cx="7718400" cy="8780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ENERGY IS LOST AT EACH TRANSFER</a:t>
            </a:r>
            <a:endParaRPr b="0" lang="en-US" sz="3300" spc="-1" strike="noStrike">
              <a:solidFill>
                <a:srgbClr val="7b9899"/>
              </a:solidFill>
              <a:latin typeface="Georgia"/>
            </a:endParaRPr>
          </a:p>
        </p:txBody>
      </p:sp>
      <p:sp>
        <p:nvSpPr>
          <p:cNvPr id="155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The chemical energy in sugars from sunlight energy trapped by producers is used mainly by the producers themselves for staying alive.  A small amount of this energy is available to consumers in the ecosyste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nergy used by producers through the process of cellular respiration and is lost as he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4">
                                            <p:txEl>
                                              <p:pRg st="0" end="0"/>
                                            </p:txEl>
                                          </p:spTgt>
                                        </p:tgtEl>
                                        <p:attrNameLst>
                                          <p:attrName>style.visibility</p:attrName>
                                        </p:attrNameLst>
                                      </p:cBhvr>
                                      <p:to>
                                        <p:strVal val="visible"/>
                                      </p:to>
                                    </p:set>
                                    <p:animEffect filter="checkerboard(across)" transition="in">
                                      <p:cBhvr additive="repl">
                                        <p:cTn id="7" dur="500"/>
                                        <p:tgtEl>
                                          <p:spTgt spid="15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554">
                                            <p:txEl>
                                              <p:pRg st="2" end="2"/>
                                            </p:txEl>
                                          </p:spTgt>
                                        </p:tgtEl>
                                        <p:attrNameLst>
                                          <p:attrName>style.visibility</p:attrName>
                                        </p:attrNameLst>
                                      </p:cBhvr>
                                      <p:to>
                                        <p:strVal val="visible"/>
                                      </p:to>
                                    </p:set>
                                    <p:animEffect filter="checkerboard(across)" transition="in">
                                      <p:cBhvr additive="repl">
                                        <p:cTn id="12" dur="500"/>
                                        <p:tgtEl>
                                          <p:spTgt spid="15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ENERGY IS LOST AT EACH TRANSFER</a:t>
            </a:r>
            <a:endParaRPr b="0" lang="en-US" sz="3300" spc="-1" strike="noStrike">
              <a:solidFill>
                <a:srgbClr val="7b9899"/>
              </a:solidFill>
              <a:latin typeface="Georgia"/>
            </a:endParaRPr>
          </a:p>
        </p:txBody>
      </p:sp>
      <p:sp>
        <p:nvSpPr>
          <p:cNvPr id="1556"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80000"/>
              </a:lnSpc>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What is the estimated percentage of radiant energy, captured by producers, that is used for producers own maintenance?</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Georgia"/>
              </a:rPr>
              <a:t>Most of the chemical energy taken by a herbivore is used for its own maintenance.  Only a small fraction is available for flow on to carnivores.</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Where does the lost energy go?</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Georgia"/>
              </a:rPr>
              <a:t>Because of the loss of energy occurring at each trophic level, there is a limit to the number of transfers through trophic levels in an ecosystem.</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3.</a:t>
            </a:r>
            <a:r>
              <a:rPr b="0" lang="en-AU" sz="2500" spc="-1" strike="noStrike">
                <a:solidFill>
                  <a:srgbClr val="000000"/>
                </a:solidFill>
                <a:latin typeface="Georgia"/>
              </a:rPr>
              <a:t>	</a:t>
            </a:r>
            <a:r>
              <a:rPr b="0" lang="en-AU" sz="2500" spc="-1" strike="noStrike">
                <a:solidFill>
                  <a:srgbClr val="000000"/>
                </a:solidFill>
                <a:latin typeface="Georgia"/>
              </a:rPr>
              <a:t>Explain the ‘rule of thumb’ for calculating the transfer of chemical energy between trophic levels.</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556">
                                            <p:txEl>
                                              <p:pRg st="0" end="0"/>
                                            </p:txEl>
                                          </p:spTgt>
                                        </p:tgtEl>
                                        <p:attrNameLst>
                                          <p:attrName>style.visibility</p:attrName>
                                        </p:attrNameLst>
                                      </p:cBhvr>
                                      <p:to>
                                        <p:strVal val="visible"/>
                                      </p:to>
                                    </p:set>
                                    <p:animEffect filter="checkerboard(across)" transition="in">
                                      <p:cBhvr additive="repl">
                                        <p:cTn id="19" dur="500"/>
                                        <p:tgtEl>
                                          <p:spTgt spid="155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556">
                                            <p:txEl>
                                              <p:pRg st="1" end="1"/>
                                            </p:txEl>
                                          </p:spTgt>
                                        </p:tgtEl>
                                        <p:attrNameLst>
                                          <p:attrName>style.visibility</p:attrName>
                                        </p:attrNameLst>
                                      </p:cBhvr>
                                      <p:to>
                                        <p:strVal val="visible"/>
                                      </p:to>
                                    </p:set>
                                    <p:animEffect filter="checkerboard(across)" transition="in">
                                      <p:cBhvr additive="repl">
                                        <p:cTn id="24" dur="500"/>
                                        <p:tgtEl>
                                          <p:spTgt spid="155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556">
                                            <p:txEl>
                                              <p:pRg st="2" end="2"/>
                                            </p:txEl>
                                          </p:spTgt>
                                        </p:tgtEl>
                                        <p:attrNameLst>
                                          <p:attrName>style.visibility</p:attrName>
                                        </p:attrNameLst>
                                      </p:cBhvr>
                                      <p:to>
                                        <p:strVal val="visible"/>
                                      </p:to>
                                    </p:set>
                                    <p:animEffect filter="checkerboard(across)" transition="in">
                                      <p:cBhvr additive="repl">
                                        <p:cTn id="29" dur="500"/>
                                        <p:tgtEl>
                                          <p:spTgt spid="15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556">
                                            <p:txEl>
                                              <p:pRg st="3" end="3"/>
                                            </p:txEl>
                                          </p:spTgt>
                                        </p:tgtEl>
                                        <p:attrNameLst>
                                          <p:attrName>style.visibility</p:attrName>
                                        </p:attrNameLst>
                                      </p:cBhvr>
                                      <p:to>
                                        <p:strVal val="visible"/>
                                      </p:to>
                                    </p:set>
                                    <p:animEffect filter="checkerboard(across)" transition="in">
                                      <p:cBhvr additive="repl">
                                        <p:cTn id="34" dur="500"/>
                                        <p:tgtEl>
                                          <p:spTgt spid="155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556">
                                            <p:txEl>
                                              <p:pRg st="5" end="5"/>
                                            </p:txEl>
                                          </p:spTgt>
                                        </p:tgtEl>
                                        <p:attrNameLst>
                                          <p:attrName>style.visibility</p:attrName>
                                        </p:attrNameLst>
                                      </p:cBhvr>
                                      <p:to>
                                        <p:strVal val="visible"/>
                                      </p:to>
                                    </p:set>
                                    <p:animEffect filter="checkerboard(across)" transition="in">
                                      <p:cBhvr additive="repl">
                                        <p:cTn id="39" dur="500"/>
                                        <p:tgtEl>
                                          <p:spTgt spid="15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7" name="Title 1" descr=""/>
          <p:cNvPicPr/>
          <p:nvPr/>
        </p:nvPicPr>
        <p:blipFill>
          <a:blip r:embed="rId1"/>
          <a:stretch/>
        </p:blipFill>
        <p:spPr>
          <a:xfrm>
            <a:off x="212760" y="317520"/>
            <a:ext cx="7493040" cy="1150920"/>
          </a:xfrm>
          <a:prstGeom prst="rect">
            <a:avLst/>
          </a:prstGeom>
          <a:ln w="0">
            <a:noFill/>
          </a:ln>
        </p:spPr>
      </p:pic>
      <p:sp>
        <p:nvSpPr>
          <p:cNvPr id="15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rebuchet MS"/>
              </a:rPr>
              <a:t>Food webs and food chains show the energy transfers or energy flow in an ecosystem by indicating specifically who eats whom.  Arrows show the direction of transfer but not the chemical energy at each transf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rebuchet MS"/>
              </a:rPr>
              <a:t>Food chains are less complex and often do not show energy flow from dead organism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558">
                                            <p:txEl>
                                              <p:pRg st="0" end="0"/>
                                            </p:txEl>
                                          </p:spTgt>
                                        </p:tgtEl>
                                        <p:attrNameLst>
                                          <p:attrName>style.visibility</p:attrName>
                                        </p:attrNameLst>
                                      </p:cBhvr>
                                      <p:to>
                                        <p:strVal val="visible"/>
                                      </p:to>
                                    </p:set>
                                    <p:animEffect filter="checkerboard(across)" transition="in">
                                      <p:cBhvr additive="repl">
                                        <p:cTn id="46" dur="500"/>
                                        <p:tgtEl>
                                          <p:spTgt spid="155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558">
                                            <p:txEl>
                                              <p:pRg st="1" end="1"/>
                                            </p:txEl>
                                          </p:spTgt>
                                        </p:tgtEl>
                                        <p:attrNameLst>
                                          <p:attrName>style.visibility</p:attrName>
                                        </p:attrNameLst>
                                      </p:cBhvr>
                                      <p:to>
                                        <p:strVal val="visible"/>
                                      </p:to>
                                    </p:set>
                                    <p:animEffect filter="checkerboard(across)" transition="in">
                                      <p:cBhvr additive="repl">
                                        <p:cTn id="51" dur="500"/>
                                        <p:tgtEl>
                                          <p:spTgt spid="15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od Chains</a:t>
            </a:r>
            <a:endParaRPr b="0" lang="en-US" sz="4000" spc="-1" strike="noStrike">
              <a:solidFill>
                <a:srgbClr val="000000"/>
              </a:solidFill>
              <a:latin typeface="Calibri"/>
            </a:endParaRPr>
          </a:p>
        </p:txBody>
      </p:sp>
      <p:sp>
        <p:nvSpPr>
          <p:cNvPr id="1560"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Calibri"/>
            </a:endParaRPr>
          </a:p>
        </p:txBody>
      </p:sp>
      <p:pic>
        <p:nvPicPr>
          <p:cNvPr id="1561"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561"/>
                                        </p:tgtEl>
                                        <p:attrNameLst>
                                          <p:attrName>style.visibility</p:attrName>
                                        </p:attrNameLst>
                                      </p:cBhvr>
                                      <p:to>
                                        <p:strVal val="visible"/>
                                      </p:to>
                                    </p:set>
                                    <p:animEffect filter="wipe(down)" transition="in">
                                      <p:cBhvr additive="repl">
                                        <p:cTn id="58" dur="500"/>
                                        <p:tgtEl>
                                          <p:spTgt spid="1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od Webs </a:t>
            </a:r>
            <a:endParaRPr b="0" lang="en-US" sz="4000" spc="-1" strike="noStrike">
              <a:solidFill>
                <a:srgbClr val="000000"/>
              </a:solidFill>
              <a:latin typeface="Calibri"/>
            </a:endParaRPr>
          </a:p>
        </p:txBody>
      </p:sp>
      <p:sp>
        <p:nvSpPr>
          <p:cNvPr id="1563" name="Text Box 4"/>
          <p:cNvSpPr/>
          <p:nvPr/>
        </p:nvSpPr>
        <p:spPr>
          <a:xfrm>
            <a:off x="285840" y="1643040"/>
            <a:ext cx="4143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webs are multiple food chains that are interconnected.  More complex than food chains.</a:t>
            </a:r>
            <a:endParaRPr b="0" lang="en-US" sz="2200" spc="-1" strike="noStrike">
              <a:solidFill>
                <a:srgbClr val="000000"/>
              </a:solidFill>
              <a:latin typeface="Calibri"/>
            </a:endParaRPr>
          </a:p>
        </p:txBody>
      </p:sp>
      <p:pic>
        <p:nvPicPr>
          <p:cNvPr id="1564"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564"/>
                                        </p:tgtEl>
                                        <p:attrNameLst>
                                          <p:attrName>style.visibility</p:attrName>
                                        </p:attrNameLst>
                                      </p:cBhvr>
                                      <p:to>
                                        <p:strVal val="visible"/>
                                      </p:to>
                                    </p:set>
                                    <p:animEffect filter="wipe(down)" transition="in">
                                      <p:cBhvr additive="repl">
                                        <p:cTn id="65" dur="500"/>
                                        <p:tgtEl>
                                          <p:spTgt spid="1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50004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ENERGY FLOW</a:t>
            </a:r>
            <a:endParaRPr b="1" lang="en-US" sz="3600" spc="-1" strike="noStrike">
              <a:solidFill>
                <a:srgbClr val="ff8d3e"/>
              </a:solidFill>
              <a:latin typeface="Verdana"/>
            </a:endParaRPr>
          </a:p>
        </p:txBody>
      </p:sp>
      <p:sp>
        <p:nvSpPr>
          <p:cNvPr id="1567" name=""/>
          <p:cNvSpPr txBox="1"/>
          <p:nvPr/>
        </p:nvSpPr>
        <p:spPr>
          <a:xfrm>
            <a:off x="428760" y="2285640"/>
            <a:ext cx="8183520" cy="4187880"/>
          </a:xfrm>
          <a:prstGeom prst="rect">
            <a:avLst/>
          </a:prstGeom>
          <a:noFill/>
          <a:ln w="0">
            <a:noFill/>
          </a:ln>
        </p:spPr>
        <p:txBody>
          <a:bodyPr lIns="182880" rIns="90000" tIns="91440" bIns="4680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ummarise the 3 main conclusions regarding energy lost as heat at each trophic level</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xplain how humans can exist at different trophic leve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03:27:14Z</dcterms:created>
  <dc:creator>Lyn Clarkson</dc:creator>
  <dc:description/>
  <dc:language>en-US</dc:language>
  <cp:lastModifiedBy>Lyn Clarkson</cp:lastModifiedBy>
  <dcterms:modified xsi:type="dcterms:W3CDTF">2007-10-26T01:20:40Z</dcterms:modified>
  <cp:revision>17</cp:revision>
  <dc:subject/>
  <dc:title>ENERGY FLOWS THROUGH AN ECOSYSTEM</dc:title>
</cp:coreProperties>
</file>